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DC8-2974-42B4-A7DD-A8E8B6BB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044-70F5-45A6-9EEC-C46729C3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EE8-6135-4FCE-A029-5DB04CF6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41A-BB07-403D-A0F5-F8307161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BEC-0B4F-455B-A5C5-DFDD7363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B00-F061-405C-AA95-AEBBA50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71D3-7141-40CA-B726-0B51338C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C5D-F235-4685-9FD0-DE08F27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37A-87C8-43A9-B11E-508D129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94E-61B0-4358-A538-CBE5437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8DAC-5454-4C49-8441-35210F2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E51-9F43-43BE-ACF6-2D44CF2D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843-9A16-4693-964A-2C6E356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125-CE0E-43E8-B624-3CEC2B8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754-8F46-4EAC-9CD7-7CD2E7A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BF5-19A4-42F9-B246-76BCAB31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2564-2C3F-472F-8188-8A3AB951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0AF-F150-47C6-9B3C-A2EAC24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DA9-37FA-46A7-B41B-5F9EFE2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546-DA4C-483A-A40B-506DA0C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29B-2859-4026-909E-98303C3E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C3F-0B5A-4D04-9AE6-09120BAB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F57-3AAA-42CC-AFA0-E0CEA48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EB2-EFEA-43E7-807E-9EFD7F7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EF4-F2FA-48A8-AA5B-FA3BC435FA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2CB-A7AD-4F29-88C8-EF888F3EFC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" Target="slide24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彩云"/>
              </a:rPr>
              <a:t>学会做人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44360" y="213372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213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5680" y="2709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9360" y="263700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0172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38600" y="3286080"/>
            <a:ext cx="33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0172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5080" y="3933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47260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773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7484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6080" y="148428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03280" y="13096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——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是交往的第一要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00" y="24210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cc3300"/>
                </a:solidFill>
                <a:latin typeface="黑体"/>
                <a:ea typeface="黑体"/>
              </a:rPr>
              <a:t>尊重代表着人际交往中的平等关系。尊重他人既是做人的基本道德，也是学会交往的第一步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60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Times New Roman"/>
                <a:ea typeface="黑体"/>
              </a:rPr>
              <a:t>尊重是交往的重要前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86 -0.01945 0.00816 -0.01528 0.02274 -0.01204 C 0.03472 0.01227 0.03246 -0.00093 0.02951 0.02731 C 0.00486 0.0243 0 0.03217 0 0 Z">
                                      <p:cBhvr>
                                        <p:cTn id="29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03640" y="1197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尊重父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295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尊重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3448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尊重同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59900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尊重周围其它的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33336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最不招人喜爱的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请同学说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00280"/>
            <a:ext cx="280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胸无大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虚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冷酷无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不负责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夸夸其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过分做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墨守成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194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52640"/>
            <a:ext cx="813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500" spc="-1" strike="noStrike">
                <a:solidFill>
                  <a:srgbClr val="ffffff"/>
                </a:solidFill>
                <a:latin typeface="黑体"/>
                <a:ea typeface="黑体"/>
              </a:rPr>
              <a:t>涓涓细流</a:t>
            </a:r>
            <a:br>
              <a:rPr sz="12500"/>
            </a:br>
            <a:r>
              <a:rPr b="0" i="1" lang="zh-CN" sz="12500" spc="-1" strike="noStrike">
                <a:solidFill>
                  <a:srgbClr val="ffffff"/>
                </a:solidFill>
                <a:latin typeface="黑体"/>
                <a:ea typeface="黑体"/>
              </a:rPr>
              <a:t>   汇成河</a:t>
            </a:r>
            <a:endParaRPr b="0" lang="en-US" sz="1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屋不扫</a:t>
            </a:r>
            <a:r>
              <a:rPr b="0" i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i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何以扫天下</a:t>
            </a:r>
            <a:r>
              <a:rPr b="0" i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672920"/>
            <a:ext cx="83595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大事与小事的关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大成是小成的积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事都做不了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大事何以开始呢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做小事过程的重要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勿以善小而不为，勿以恶小而为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五十步笑百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质与量的关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在失误或错的情况下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本质都是一样的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小错也要少犯或不犯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56000" y="456840"/>
            <a:ext cx="424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斤斤计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0773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只看到眼前的利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眼前的利益永远是长远利益的大敌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4130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黑体"/>
                <a:ea typeface="黑体"/>
              </a:rPr>
              <a:t>在一个集体中，只有集体成员团结合作才能把事情做成功。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010280" y="4495680"/>
          <a:ext cx="23623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4495680"/>
                    <a:ext cx="2362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391520" y="4876920"/>
            <a:ext cx="15228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47242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457200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4419720"/>
            <a:ext cx="15264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42670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292640"/>
            <a:ext cx="5832720" cy="143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这种因团结合作而产生的力量叫什么力量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476280"/>
            <a:ext cx="554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有责任心和集体荣誉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488880"/>
            <a:ext cx="633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增强班集体的凝聚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3715920"/>
            <a:ext cx="84582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集体凝聚力：集体对成员的吸引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既指：集体成员与整个群体的吸引程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又指：集体成员之间的吸引程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0750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集体凝聚力的表现：</a:t>
            </a:r>
            <a:r>
              <a:rPr b="0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集体成员为了共同目标团结在一起，心往一处想，劲往一处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9080" y="4149720"/>
            <a:ext cx="9144000" cy="2708280"/>
          </a:xfrm>
          <a:prstGeom prst="rect">
            <a:avLst/>
          </a:prstGeom>
          <a:solidFill>
            <a:srgbClr val="8a95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981000"/>
            <a:ext cx="58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尊重是交往的前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2060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礼貌是交往的名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4869000"/>
            <a:ext cx="301320" cy="301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8159760" y="5648400"/>
            <a:ext cx="372960" cy="37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500720" y="44280"/>
            <a:ext cx="103968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95280" y="981000"/>
            <a:ext cx="1417680" cy="141768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8" action="ppaction://hlinksldjump"/>
          </p:cNvPr>
          <p:cNvSpPr/>
          <p:nvPr/>
        </p:nvSpPr>
        <p:spPr>
          <a:xfrm>
            <a:off x="7020000" y="4724280"/>
            <a:ext cx="647640" cy="5050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9" action="ppaction://hlinksldjump"/>
          </p:cNvPr>
          <p:cNvSpPr/>
          <p:nvPr/>
        </p:nvSpPr>
        <p:spPr>
          <a:xfrm>
            <a:off x="6948360" y="5589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10" action="ppaction://hlinksldjump"/>
          </p:cNvPr>
          <p:cNvSpPr/>
          <p:nvPr/>
        </p:nvSpPr>
        <p:spPr>
          <a:xfrm>
            <a:off x="8101080" y="558972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31622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感恩是交往的延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9640" y="549360"/>
          <a:ext cx="297180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49360"/>
                    <a:ext cx="29718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619280" y="1413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心灵感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2708280"/>
            <a:ext cx="593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黑体"/>
              </a:rPr>
              <a:t>集体的凝聚力来自集体成员的团结与合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5562720"/>
          <a:ext cx="609588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562720"/>
                    <a:ext cx="60958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095880" y="5562720"/>
          <a:ext cx="304812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5562720"/>
                    <a:ext cx="3048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04600" y="1125000"/>
            <a:ext cx="736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说 下面三者之间的关系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荣誉感                      自豪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归属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责任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690200" y="3357720"/>
            <a:ext cx="129708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299736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932000" y="4076640"/>
            <a:ext cx="1800360" cy="115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10680" y="1887480"/>
            <a:ext cx="478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谁记得自己的父母的生日的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谁知道父母喜欢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谁知道父母讨厌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谁敢说“我很了解父母”！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549360"/>
            <a:ext cx="388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感恩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14842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2421000"/>
            <a:ext cx="574560" cy="2448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2448000"/>
              <a:gd name="textAreaBottom" fmla="*/ 2420280 h 2448000"/>
            </a:gdLst>
            <a:ahLst/>
            <a:rect l="textAreaLeft" t="textAreaTop" r="textAreaRight" b="textAreaBottom"/>
            <a:pathLst>
              <a:path w="21600" h="91986">
                <a:moveTo>
                  <a:pt x="3600" y="0"/>
                </a:moveTo>
                <a:arcTo wR="3600" hR="3600" stAng="16200000" swAng="-5400000"/>
                <a:lnTo>
                  <a:pt x="0" y="88386"/>
                </a:lnTo>
                <a:arcTo wR="3600" hR="3600" stAng="10800000" swAng="-5400000"/>
                <a:lnTo>
                  <a:pt x="18000" y="9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交往艺术新思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1523880"/>
            <a:ext cx="115920" cy="4267440"/>
          </a:xfrm>
          <a:custGeom>
            <a:avLst/>
            <a:gdLst>
              <a:gd name="textAreaLeft" fmla="*/ 74160 w 115920"/>
              <a:gd name="textAreaRight" fmla="*/ 116280 w 115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523880"/>
            <a:ext cx="2286000" cy="6098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友好交往礼为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029200"/>
            <a:ext cx="2286000" cy="50472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诚信做人到永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16002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4800600"/>
            <a:ext cx="152280" cy="1147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523880"/>
            <a:ext cx="2361960" cy="38124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貌显魅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905120"/>
            <a:ext cx="236196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仪展风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5334120"/>
            <a:ext cx="243828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做诚信的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876920"/>
            <a:ext cx="243828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诚信是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4382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438280"/>
            <a:ext cx="2361960" cy="38124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？合作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2819520"/>
            <a:ext cx="236196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合作！竞争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514600"/>
            <a:ext cx="2286000" cy="6094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竞争合作求双赢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429000"/>
            <a:ext cx="2286000" cy="6094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心有他人天地宽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3429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429000"/>
            <a:ext cx="236196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海纳百川，有容乃大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3809880"/>
            <a:ext cx="2361960" cy="38124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换位思考、与人为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191120"/>
            <a:ext cx="2361960" cy="3808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平等尊重你我他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14842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438280"/>
            <a:ext cx="574560" cy="2448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2448000"/>
              <a:gd name="textAreaBottom" fmla="*/ 2420280 h 2448000"/>
            </a:gdLst>
            <a:ahLst/>
            <a:rect l="textAreaLeft" t="textAreaTop" r="textAreaRight" b="textAreaBottom"/>
            <a:pathLst>
              <a:path w="21600" h="91986">
                <a:moveTo>
                  <a:pt x="3600" y="0"/>
                </a:moveTo>
                <a:arcTo wR="3600" hR="3600" stAng="16200000" swAng="-5400000"/>
                <a:lnTo>
                  <a:pt x="0" y="88386"/>
                </a:lnTo>
                <a:arcTo wR="3600" hR="3600" stAng="10800000" swAng="-5400000"/>
                <a:lnTo>
                  <a:pt x="18000" y="9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友好交往礼为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438280"/>
            <a:ext cx="287280" cy="25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648320"/>
            <a:ext cx="1687680" cy="53316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礼仪展风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2060640"/>
            <a:ext cx="212760" cy="1368360"/>
          </a:xfrm>
          <a:custGeom>
            <a:avLst/>
            <a:gdLst>
              <a:gd name="textAreaLeft" fmla="*/ 136080 w 212760"/>
              <a:gd name="textAreaRight" fmla="*/ 213120 w 2127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43434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048120"/>
            <a:ext cx="1681200" cy="4158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谢谢”的魅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267080"/>
            <a:ext cx="1871640" cy="5050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因礼仪而优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5181480"/>
            <a:ext cx="1871640" cy="5050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社交礼仪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48000" y="1773360"/>
            <a:ext cx="1681200" cy="4363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貌是尊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6765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1628640"/>
            <a:ext cx="3187440" cy="35244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貌是尊重的具体表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666880"/>
            <a:ext cx="152280" cy="1089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2062080"/>
            <a:ext cx="3187440" cy="30024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貌是文明的体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3187800" cy="32544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语言文明的魅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971800"/>
            <a:ext cx="3187800" cy="304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态度亲和的魅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3429000"/>
            <a:ext cx="3187800" cy="2919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举止端庄的魅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4114800"/>
            <a:ext cx="76320" cy="579600"/>
          </a:xfrm>
          <a:custGeom>
            <a:avLst/>
            <a:gdLst>
              <a:gd name="textAreaLeft" fmla="*/ 48960 w 76320"/>
              <a:gd name="textAreaRight" fmla="*/ 76320 w 76320"/>
              <a:gd name="textAreaTop" fmla="*/ 15120 h 579600"/>
              <a:gd name="textAreaBottom" fmla="*/ 564480 h 5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4038480"/>
            <a:ext cx="3187800" cy="2905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礼仪有特定要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4495680"/>
            <a:ext cx="3187800" cy="289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讲究礼仪的意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029200"/>
            <a:ext cx="76320" cy="579600"/>
          </a:xfrm>
          <a:custGeom>
            <a:avLst/>
            <a:gdLst>
              <a:gd name="textAreaLeft" fmla="*/ 48960 w 76320"/>
              <a:gd name="textAreaRight" fmla="*/ 76320 w 76320"/>
              <a:gd name="textAreaTop" fmla="*/ 15120 h 579600"/>
              <a:gd name="textAreaBottom" fmla="*/ 564480 h 5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4952880"/>
            <a:ext cx="32004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掌握基本的交往礼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410080"/>
            <a:ext cx="312444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了解传统习俗中的礼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2286000"/>
            <a:ext cx="1523880" cy="53352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礼貌显魅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1052640"/>
            <a:ext cx="421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幼圆"/>
                <a:ea typeface="黑体"/>
              </a:rPr>
              <a:t>友好交往礼为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14842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10666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幼圆"/>
                <a:ea typeface="黑体"/>
              </a:rPr>
              <a:t>合作竞争求双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438280"/>
            <a:ext cx="574560" cy="2448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2448000"/>
              <a:gd name="textAreaBottom" fmla="*/ 2420280 h 2448000"/>
            </a:gdLst>
            <a:ahLst/>
            <a:rect l="textAreaLeft" t="textAreaTop" r="textAreaRight" b="textAreaBottom"/>
            <a:pathLst>
              <a:path w="21600" h="91986">
                <a:moveTo>
                  <a:pt x="3600" y="0"/>
                </a:moveTo>
                <a:arcTo wR="3600" hR="3600" stAng="16200000" swAng="-5400000"/>
                <a:lnTo>
                  <a:pt x="0" y="88386"/>
                </a:lnTo>
                <a:arcTo wR="3600" hR="3600" stAng="10800000" swAng="-5400000"/>
                <a:lnTo>
                  <a:pt x="18000" y="9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竞争合作求双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438280"/>
            <a:ext cx="152640" cy="252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276640"/>
            <a:ext cx="1849680" cy="6188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竞争？合作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4572000"/>
            <a:ext cx="1828800" cy="60012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合作！竞争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87640" y="206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4191120"/>
            <a:ext cx="76320" cy="1503360"/>
          </a:xfrm>
          <a:custGeom>
            <a:avLst/>
            <a:gdLst>
              <a:gd name="textAreaLeft" fmla="*/ 48960 w 76320"/>
              <a:gd name="textAreaRight" fmla="*/ 76320 w 76320"/>
              <a:gd name="textAreaTop" fmla="*/ 38880 h 1503360"/>
              <a:gd name="textAreaBottom" fmla="*/ 1464480 h 15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2895480"/>
            <a:ext cx="1752480" cy="5050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合作共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4038480"/>
            <a:ext cx="1752480" cy="5050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在合作中竞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5334120"/>
            <a:ext cx="1752480" cy="504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在竞争中合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1752480"/>
            <a:ext cx="1681200" cy="5032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平等竞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2666880"/>
            <a:ext cx="3886200" cy="289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合作是共享的基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8195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304812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合作的力量是无穷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600200"/>
            <a:ext cx="76320" cy="865080"/>
          </a:xfrm>
          <a:custGeom>
            <a:avLst/>
            <a:gdLst>
              <a:gd name="textAreaLeft" fmla="*/ 48960 w 76320"/>
              <a:gd name="textAreaRight" fmla="*/ 76320 w 763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52388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无处不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的积极作用与消极作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286000"/>
            <a:ext cx="3886200" cy="314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良好的竞争意识与不良的竞争意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3429000"/>
            <a:ext cx="3886200" cy="2905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合作是事业成功的前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809880"/>
            <a:ext cx="3886200" cy="289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竞争与合作相互依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9625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19112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尊重竞争对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495288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应体现“双赢”原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5105520"/>
            <a:ext cx="76320" cy="807840"/>
          </a:xfrm>
          <a:custGeom>
            <a:avLst/>
            <a:gdLst>
              <a:gd name="textAreaLeft" fmla="*/ 48960 w 76320"/>
              <a:gd name="textAreaRight" fmla="*/ 76320 w 76320"/>
              <a:gd name="textAreaTop" fmla="*/ 20880 h 807840"/>
              <a:gd name="textAreaBottom" fmla="*/ 786960 h 80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533412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学会欣赏别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5715000"/>
            <a:ext cx="3886200" cy="304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形成团队精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572000"/>
            <a:ext cx="3886200" cy="287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敢于与他人竞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533520"/>
            <a:ext cx="85345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幼圆"/>
                <a:ea typeface="黑体"/>
              </a:rPr>
              <a:t>  </a:t>
            </a:r>
            <a:r>
              <a:rPr b="0" lang="zh-CN" sz="2800" spc="-1" strike="noStrike">
                <a:solidFill>
                  <a:srgbClr val="00cc00"/>
                </a:solidFill>
                <a:latin typeface="幼圆"/>
                <a:ea typeface="黑体"/>
              </a:rPr>
              <a:t>心有他人天地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533520"/>
            <a:ext cx="8686800" cy="5867280"/>
            <a:chOff x="228600" y="533520"/>
            <a:chExt cx="8686800" cy="5867280"/>
          </a:xfrm>
        </p:grpSpPr>
        <p:sp>
          <p:nvSpPr>
            <p:cNvPr id="266" name=""/>
            <p:cNvSpPr/>
            <p:nvPr/>
          </p:nvSpPr>
          <p:spPr>
            <a:xfrm>
              <a:off x="228600" y="1219320"/>
              <a:ext cx="574560" cy="3666960"/>
            </a:xfrm>
            <a:custGeom>
              <a:avLst/>
              <a:gdLst>
                <a:gd name="textAreaLeft" fmla="*/ 27720 w 574560"/>
                <a:gd name="textAreaRight" fmla="*/ 546840 w 574560"/>
                <a:gd name="textAreaTop" fmla="*/ 27720 h 3666960"/>
                <a:gd name="textAreaBottom" fmla="*/ 3639240 h 3666960"/>
              </a:gdLst>
              <a:ahLst/>
              <a:rect l="textAreaLeft" t="textAreaTop" r="textAreaRight" b="textAreaBottom"/>
              <a:pathLst>
                <a:path w="21600" h="137783">
                  <a:moveTo>
                    <a:pt x="3600" y="0"/>
                  </a:moveTo>
                  <a:arcTo wR="3600" hR="3600" stAng="16200000" swAng="-5400000"/>
                  <a:lnTo>
                    <a:pt x="0" y="134183"/>
                  </a:lnTo>
                  <a:arcTo wR="3600" hR="3600" stAng="10800000" swAng="-5400000"/>
                  <a:lnTo>
                    <a:pt x="18000" y="137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心有他人天地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1219320"/>
              <a:ext cx="152640" cy="37400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0 h 3740040"/>
                <a:gd name="textAreaBottom" fmla="*/ 3642840 h 37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1066680"/>
              <a:ext cx="1849680" cy="68580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海纳百川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有容乃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66680" y="4572000"/>
              <a:ext cx="1828800" cy="60012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平等尊重你我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914400"/>
              <a:ext cx="76320" cy="13716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4648320"/>
              <a:ext cx="76320" cy="10461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000 h 1046160"/>
                <a:gd name="textAreaBottom" fmla="*/ 1019160 h 10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1676520"/>
              <a:ext cx="1752840" cy="60948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宽容他人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悦纳自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4080" y="4572000"/>
              <a:ext cx="1752840" cy="5047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人生而平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24080" y="5638680"/>
              <a:ext cx="1752840" cy="50508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从我做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4080" y="762120"/>
              <a:ext cx="1681200" cy="60948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金无足赤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人各有别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9200" y="1523880"/>
              <a:ext cx="3886200" cy="2890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宽容是一种境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6920" y="1600200"/>
              <a:ext cx="75960" cy="7621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29200" y="182880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宽容带来心灵的安宁和满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76920" y="533520"/>
              <a:ext cx="75960" cy="8650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29200" y="5335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宽容的内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29200" y="83808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求同存异是宽容合作的基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9200" y="1143000"/>
              <a:ext cx="3886200" cy="314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人与人之间需要相互宽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200" y="2133720"/>
              <a:ext cx="3886200" cy="2905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宽容是有原则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9200" y="3124080"/>
              <a:ext cx="3886200" cy="2890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关心、尊重、理解是根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76920" y="3505320"/>
              <a:ext cx="75960" cy="8380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29200" y="380988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对换位思考的要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29200" y="449568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每个人都有做人的尊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920" y="5562720"/>
              <a:ext cx="75960" cy="7318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080 h 731880"/>
                <a:gd name="textAreaBottom" fmla="*/ 712800 h 73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480060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人的差异需要得到尊重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9200" y="5791320"/>
              <a:ext cx="3886200" cy="30456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遵守规则是尊重社会的底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411480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以欣赏的态度待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24080" y="2514600"/>
              <a:ext cx="1752840" cy="5335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己所不欲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勿施与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6920" y="2514600"/>
              <a:ext cx="75960" cy="7621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2819520"/>
              <a:ext cx="1828800" cy="82872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换位思考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与人为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3657600"/>
              <a:ext cx="1752840" cy="65736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理解至上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善待他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95480" y="251460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9200" y="2819520"/>
              <a:ext cx="3886200" cy="2887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像对待自己那样对待别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2514600"/>
              <a:ext cx="3886200" cy="2890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己所不欲，勿施与人”的内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29200" y="35053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换位思考，与人为善的实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6920" y="45720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6095880"/>
              <a:ext cx="3886200" cy="3049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自然是人类的责任和义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29200" y="5486400"/>
              <a:ext cx="3886200" cy="3049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受人尊重是人的基本权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9200" y="5105520"/>
              <a:ext cx="3886200" cy="30456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平等对待弱势群体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14842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600" y="1523880"/>
            <a:ext cx="8763120" cy="4496040"/>
            <a:chOff x="228600" y="1523880"/>
            <a:chExt cx="8763120" cy="4496040"/>
          </a:xfrm>
        </p:grpSpPr>
        <p:sp>
          <p:nvSpPr>
            <p:cNvPr id="306" name=""/>
            <p:cNvSpPr/>
            <p:nvPr/>
          </p:nvSpPr>
          <p:spPr>
            <a:xfrm>
              <a:off x="228600" y="2438280"/>
              <a:ext cx="574560" cy="2448000"/>
            </a:xfrm>
            <a:custGeom>
              <a:avLst/>
              <a:gdLst>
                <a:gd name="textAreaLeft" fmla="*/ 27720 w 574560"/>
                <a:gd name="textAreaRight" fmla="*/ 546840 w 574560"/>
                <a:gd name="textAreaTop" fmla="*/ 27720 h 2448000"/>
                <a:gd name="textAreaBottom" fmla="*/ 2420280 h 2448000"/>
              </a:gdLst>
              <a:ahLst/>
              <a:rect l="textAreaLeft" t="textAreaTop" r="textAreaRight" b="textAreaBottom"/>
              <a:pathLst>
                <a:path w="21600" h="91986">
                  <a:moveTo>
                    <a:pt x="3600" y="0"/>
                  </a:moveTo>
                  <a:arcTo wR="3600" hR="3600" stAng="16200000" swAng="-5400000"/>
                  <a:lnTo>
                    <a:pt x="0" y="88386"/>
                  </a:lnTo>
                  <a:arcTo wR="3600" hR="3600" stAng="10800000" swAng="-5400000"/>
                  <a:lnTo>
                    <a:pt x="18000" y="919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做人到永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080" y="2438280"/>
              <a:ext cx="152640" cy="2521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21080"/>
                <a:gd name="textAreaBottom" fmla="*/ 245556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2276640"/>
              <a:ext cx="1600200" cy="6188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是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6680" y="4572000"/>
              <a:ext cx="1676520" cy="60012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做诚信的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2057400"/>
              <a:ext cx="152640" cy="936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3200" y="4191120"/>
              <a:ext cx="76320" cy="15033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8880 h 1503360"/>
                <a:gd name="textAreaBottom" fmla="*/ 1464480 h 15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19520" y="2895480"/>
              <a:ext cx="2133360" cy="50508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对人守信，对事负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9520" y="4038480"/>
              <a:ext cx="2133360" cy="50508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守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19520" y="5334120"/>
              <a:ext cx="2133360" cy="5047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的智慧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9520" y="1752480"/>
              <a:ext cx="2062080" cy="5335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言而有信，一诺千金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05520" y="2666880"/>
              <a:ext cx="3886200" cy="2890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做老实人，办老实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2880" y="2819520"/>
              <a:ext cx="76320" cy="7617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05520" y="30481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不要轻易许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52880" y="1600200"/>
              <a:ext cx="76320" cy="865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05520" y="152388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什么是诚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19051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信守自己的诺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05520" y="2286000"/>
              <a:ext cx="3886200" cy="314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不讲信用，害人害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05520" y="3429000"/>
              <a:ext cx="3886200" cy="2905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做人无大事、小事之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05520" y="3809880"/>
              <a:ext cx="3886200" cy="2890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坚持诚实回获得信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39625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5520" y="41911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实事求是是诚信的基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495288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要与具体的情况相结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2880" y="5105520"/>
              <a:ext cx="76320" cy="8078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0880 h 807840"/>
                <a:gd name="textAreaBottom" fmla="*/ 786960 h 80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05520" y="533412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实与隐私的关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5715000"/>
              <a:ext cx="3886200" cy="30492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的核心是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05520" y="4572000"/>
              <a:ext cx="3886200" cy="287280"/>
            </a:xfrm>
            <a:prstGeom prst="flowChartAlternateProcess">
              <a:avLst/>
            </a:prstGeom>
            <a:solidFill>
              <a:srgbClr val="3399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诚信守则的具体要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48320" y="1052640"/>
            <a:ext cx="421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幼圆"/>
                <a:ea typeface="黑体"/>
              </a:rPr>
              <a:t>诚信做人到永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358920"/>
            <a:ext cx="813744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农夫与懒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摘自伊索寓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农夫辛苦了一辈子，临终前他对三个懒惰的儿子说，他留下一罐黄金，埋在了葡萄园里，足够他们享用终生的。于是，三个儿子拿起了农具，挖遍了整个葡萄园也没有找到黄金，但是因为土地被频繁地翻耕，葡萄长势很好，年年获得丰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守着黄金终有坐吃山空的那一天，</a:t>
            </a:r>
            <a:r>
              <a:rPr b="0" lang="zh-CN" sz="3600" spc="-1" strike="noStrike">
                <a:solidFill>
                  <a:srgbClr val="66ffff"/>
                </a:solidFill>
                <a:latin typeface="黑体"/>
                <a:ea typeface="黑体"/>
              </a:rPr>
              <a:t>惟有勤奋的劳作，才是富裕的源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社会主义荣辱观“八荣八耻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6199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主义荣辱观“八荣八耻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热爱祖国为荣 以危害祖国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服务人民为荣 以背离人民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崇尚科学为荣 以愚昧无知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辛勤劳动为荣 以好逸恶劳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团结互助为荣 以损人利己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诚实守信为荣 以见利忘义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遵纪守法为荣 以违法乱纪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艰苦奋斗为荣 以骄奢淫逸为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1640" y="198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中学生校园礼仪规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69120" y="146988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言语要文明，见面问声好。友善共相处热情礼相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6280" y="2230560"/>
            <a:ext cx="5074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     “请”、“你好”、“对不起”、“谢谢”等文明用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绰号。文明礼貌的言语往往能拉近人与人的距离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缓和矛盾，增进团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走在楼梯、校道上，遇到自己的同学、老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等都应主动问声好，让一声问候温暖彼此的心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对同学、老师、父母、亲人态度要友善、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诚、守时守信，不弄虚作假；对来宾、客人热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相待，回答询问大方得体、知无不言、不卑不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68960" y="9079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２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衣着应端庄，仪态要规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50360" y="170028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作为学生，应该有学生的衣着、仪表。不穿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装异服，不袒露躯体，束好皮带，不穿拖鞋，不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首饰，不化妆，不纹身，不剃光头或留古怪发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男同学不留长发，女同学不披头散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2480" y="364500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３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领物取物，主动排队，相互礼让，井然有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09240" y="450864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领取物品，饭堂打饭，水房打水，应主动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队，不插队，不推撞，不起哄，相互礼让，井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序才能提高效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140000" y="533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４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他人宿舍，非请莫进；他人财物，未准莫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别班的课室、宿舍、老师的办公室乃至器材仪器室、实验室等地，需进入时应先征得老师同意；当这些场所没有人时，非特殊批准，不要进入。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这是对他人的尊重，也是一种自我保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他人的财物、日记、作文等，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应尊重他人的权益和隐私，不随意拿用，翻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00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4320" y="4508640"/>
            <a:ext cx="121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校道、走廊、楼梯是公共通道，要相互谦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主动留道给他人通过，不在这些通道上聚集、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闹，也不将自行车车停放在校道、走廊或运动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域上，以免影响他人通行和运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66480" y="6778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６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弱小贫困，帮扶资助；残疾病患，文明相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44880" y="119700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对于有困难，需要帮助的同学、老师，应主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给予帮助，对于身体有缺陷、有疾病的同学和老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要文明相待，给予关心，而不应讽刺、讥笑、捉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或恶意模仿，做出不文明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6480" y="328464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７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桌面墙面，莫乱涂画；垃圾杂物，弃置有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1600" y="407664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桌面、墙面、黑板、衣服或学校、班、级的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贴物，各有各的用途，不应在上面乱涂乱画，垃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杂物，脏水污物应扔在垃圾筐、垃圾筒、垃圾篓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倒在剩饭菜筒里，而不应随意丢弃、将残羹剩饭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在饭桌上或倒在地上，污染校园环境。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37720" y="60660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８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进出校门，主动下车，微笑致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7440" y="112392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进出校门、宿舍大门时，骑自行车的同学应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动下车推行，并出示或在显眼位置佩带校牌。不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是值日的同学、老师，还是生活导师、保安人员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应点头微笑致意，主动接受检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6480" y="29242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９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上课考试，休息时间，尊重他人，保持安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50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上课考试时，不在校园内喧哗、吵闹，更不该在课室附近聚集、玩闹，或在正在上课、考试的课室门口、窗前向内观望、召唤、言谈吵闹，影响老师和同学的上课或考试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午休、晚休，应按时就寝，不在宿舍和宿舍内玩耍、吵闹，或发出惊扰他人的声响。迟归的同学，应轻手轻脚，避免扰人清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71240" y="132552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１０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升旗仪式，庄严肃穆，着装整齐，端正严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248760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参加升旗仪式，是爱国主义的一项重要体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仪式上，应统一穿着校服，态度要严谨，站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要端正，安静，整齐，精神饱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54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初次见面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客人到来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好久不见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欢迎购物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求人解答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赞人见解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请人帮助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表示谦意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麻烦别人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0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人分手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27280" y="134136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好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6000" y="1773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4560" y="2276640"/>
            <a:ext cx="13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久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57440" y="263700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光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54560" y="3068640"/>
            <a:ext cx="11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35200" y="3500280"/>
            <a:ext cx="11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高见　　　　　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37000" y="393372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多关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4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不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797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拜托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5300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再见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0:01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1:49Z</dcterms:modified>
  <cp:revision>26</cp:revision>
  <dc:subject>主题班会课件(分28大类): http://shop62905894.taobao.com</dc:subject>
  <dc:title>主题班会课件(分28大类): http://shop62905894.taobao.com</dc:title>
</cp:coreProperties>
</file>